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003-5C6B-44CB-A540-2ACB8A06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5D4-407E-4CC2-AD2B-9488539E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A90-9E37-4EDF-8C12-4EDA22F7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8B5-55BF-4684-903E-E50B5A63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E45-6EE3-4D44-8D1F-49D06974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ADF-FDE3-4798-946D-68D65918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2B9-5554-409B-9C27-9F36090D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EEC-62E5-4B05-91EC-EBF16568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730-1FD7-43A6-96BE-A7A6FF9A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C44-70C3-49E0-9FF7-20C9F25B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99E-4650-46CA-A3D1-C4B3425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D5F-1046-4E2D-A84B-74A63D81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3134-BB64-4EAB-BAC5-2A708CE53E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ndings</a:t>
            </a: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think about different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ays to end their writing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A conclusion leaves a lasting impression on the reader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However, a good ending can be difficult to write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Let’s look at some examples of different types of endings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2590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Let’s read a story together called “Snap, Crackle and Pop.”  We will look at three different endings for this story.</a:t>
            </a: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Reflective Ending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n’t know why I think of this “dog incident” so often.  Probably because it includes so many things that were typical of my childhood: long, lazy, boring summer afternoons; endless collections of “things”; three movies a week at 9 cents a crack; the lack of constant supervision; and the endless bowls of Rice Krispies with banana on top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Dialogue Ending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you going to do with your plastic dog collection?” I asked Ginny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, I don’t know,” she replied.  “Now that I have them all, I don’t really seem to care about them anymore.  Do you want them?”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ought a moment and then said, “No.”  I knew just what she meant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Action Ending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afternoon, I stopped by the Red Owl to get some things my mother wanted.  As I walked down the cereal aisle, I noticed that the littl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dy and the Tram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go was missing from the Rice Krispy boxes.  “Oh, darn,” I thought as I biked back home.  I dashed over to Ginny’s house and leaned on her doorbell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Action Ending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’ve changed the Rice Krispy boxes,” I shouted at her when she answered the door.  At first she just stared at me, then a slow smile spread across her face.  Then we both laughed and went into the backyard to play in the dirt with our plastic horses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Ending Your Story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oday as you are writing and revising your fiction stories, think about your ending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ry ending your story a few different ways.  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ich way do you like best?  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ich ones works best for your story? 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Be prepared to share.</a:t>
            </a: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8:51:53Z</dcterms:created>
  <dc:creator>AAPS</dc:creator>
  <dc:description/>
  <dc:language>en-US</dc:language>
  <cp:lastModifiedBy>Carrie Dworkin</cp:lastModifiedBy>
  <dcterms:modified xsi:type="dcterms:W3CDTF">2005-08-16T21:26:22Z</dcterms:modified>
  <cp:revision>12</cp:revision>
  <dc:subject/>
  <dc:title>Endings </dc:title>
</cp:coreProperties>
</file>